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4F4-ABFD-41C1-B878-D4EF9221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742A-D80F-4B0A-B70B-BEF831F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0D1-E833-4B29-9AE8-876BDC66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EEF-4D85-440E-8DAC-82C09778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18B-7E1A-44A5-96BC-6523277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354-6003-448B-BD12-8927D0DB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ECA-4538-4A2D-B67C-49222A6B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EAE-0BF8-4EF4-BCD6-7C29988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DC1-9E68-4C2B-9FB2-EE46BF00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DDF-1C98-4EEF-95C6-3E7B905F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16F-D80D-4288-B4DD-9213FA73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1A2-A553-476B-B7CD-56C4E5E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501-E2EB-4BCE-A866-7B27C09F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Positive Affect (PA)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and Negative Affect (NA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Sample Descrip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PA: interested, enthusiastic, active, </a:t>
            </a: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NA: tense, angry, dist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Two Separable Dimensions of Emo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Linked to Basic Motivational Systems Specialized for Responding to Rewards (PA) and Aversive Stimuli (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Relevance to De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Current and 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Question: What are the Effects of Antidepressants with Differing Pharmacolog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Buprop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SSRI'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Psychophysiological Assess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Assessment of Biological and Psychosocial Media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Assessment of Co-Morb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Relevance to Normal and Abnormal Proc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Conceptual: Psychopathology as dysfunction in basic emotional and  motiv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Methodological: Utility of measures and methods typically used in the study of "normal" e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s of Sleep Dep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60% of depressed patients benefit from one night of sleep dep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 news: Effects are trans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news: Evidence that can potentiate responses to antidepres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 news: Some findings are potentially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Can stronger evidence for effects of S.D. be fou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Hypothes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The addition of sleep deprivation to nortriptyline will lead to significant increases in PA over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Effects on PA will be greater than effects observed on NA or depression symptom measu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Basis for Hypothe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Linkages between the mesolimbic DA system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reward/approach behavi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trait 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Effects of sleep deprivation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reward/approach behavi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mesolimbic D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Effects of antidepressant treatment on the reversal of "anhedonia" and on DA recepto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G Times"/>
              </a:rPr>
              <a:t>Sleep Deprivation Stud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G Times"/>
              </a:rPr>
              <a:t>Major Methodological Fea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95 outpatients meeting criteria for MDD and having elevated HRSD s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Three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Sleep Deprivation + Nortripty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Nortriptyline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Sleep Deprivation + Place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Sleep deprivation for one nig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Nortriptyline treatment for four weeks, placebo for two wee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Assessmen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Mood diaries three times per 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SDDRS, BDI daily for first two weeks, weekly there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HRSD 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G Times"/>
              </a:rPr>
              <a:t>Sleep Deprivation Stud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G Times"/>
              </a:rPr>
              <a:t>Primary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Circumplex Mood 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PA, NA, plus 6 additional oct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Three X per 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Depression Symptom Meas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SDDRS and B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Daily for first two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eekly there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HRS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G 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ee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stical Analy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Primary Measures for Tod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PA, NA, SDDRS, B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Two primary time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One w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Two w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Omnibus Tests (Group X Day X Time of Day) and Planned Contrasts Assessing Change from the Pre-Treatment Bas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SAS PROC MIXED Used to Test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G Times"/>
              </a:rPr>
              <a:t>Summary of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Nortriptyline treatment was sufficient to induce significant declines in NA and in SDDRS, BDI, and HRSD scores over the interval ass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Times"/>
              </a:rPr>
              <a:t>The addition of sleep deprivation to nortriptyline was necessary to induce significant increases in 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utions, Limitations, Ambiguit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uration of 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surement of E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ation of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5:40:53Z</dcterms:created>
  <dc:creator>Andy Tomarken</dc:creator>
  <dc:description/>
  <dc:language>en-US</dc:language>
  <cp:lastModifiedBy>Andy Tomarken</cp:lastModifiedBy>
  <dcterms:modified xsi:type="dcterms:W3CDTF">2000-02-29T15:08:36Z</dcterms:modified>
  <cp:revision>3</cp:revision>
  <dc:subject/>
  <dc:title>Effects of Sleep Deprivation</dc:title>
</cp:coreProperties>
</file>